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E4E-D290-4D9B-BB15-F8B03710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52B-7FED-46E3-A297-C40A130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796-25C1-4E30-991A-9B223E79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1B2-C609-467D-96CC-807EB796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3A1-340A-45F7-B96A-64E0DF57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B8F-AE68-43DF-8B92-4E67168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B71-4B44-41E7-BE1A-66F07DB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B22-AA4C-4382-B2C0-47646C8E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0CE-0DBB-4379-A5B0-03113EF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99B-DBAE-4771-87C9-CB15C79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3FD-0CC0-4B06-B6A0-6794FD10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05C-2198-4913-B083-0A55708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7730-B583-4981-9E17-464F2132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773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Cómo es tu profe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84464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your profesors are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ath-teacher"/>
          <p:cNvPicPr/>
          <p:nvPr/>
        </p:nvPicPr>
        <p:blipFill>
          <a:blip r:embed="rId1"/>
          <a:stretch/>
        </p:blipFill>
        <p:spPr>
          <a:xfrm>
            <a:off x="5791320" y="228600"/>
            <a:ext cx="2666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cción 3 ¿Quié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ién es tú profesor de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¿Quién es tu profesor d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? ¿Como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511-0708-2917-4832_Female_Math_Teacher_clipart_image"/>
          <p:cNvPicPr/>
          <p:nvPr/>
        </p:nvPicPr>
        <p:blipFill>
          <a:blip r:embed="rId3"/>
          <a:stretch/>
        </p:blipFill>
        <p:spPr>
          <a:xfrm>
            <a:off x="2819520" y="2895480"/>
            <a:ext cx="2624040" cy="31244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481"/>
              <a:gd name="adj2" fmla="val 59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i profesora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s la señora Angela. Es mu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impát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ivertid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7712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887 Charlie Brown.jpg"/>
          <p:cNvPicPr/>
          <p:nvPr/>
        </p:nvPicPr>
        <p:blipFill>
          <a:blip r:embed="rId2"/>
          <a:stretch/>
        </p:blipFill>
        <p:spPr>
          <a:xfrm>
            <a:off x="1911240" y="3218040"/>
            <a:ext cx="1663920" cy="30193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!Qué suer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good_luck_graphics_05"/>
          <p:cNvPicPr/>
          <p:nvPr/>
        </p:nvPicPr>
        <p:blipFill>
          <a:blip r:embed="rId3"/>
          <a:stretch/>
        </p:blipFill>
        <p:spPr>
          <a:xfrm>
            <a:off x="1447920" y="114300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9"/>
          <p:cNvSpPr/>
          <p:nvPr/>
        </p:nvSpPr>
        <p:spPr>
          <a:xfrm>
            <a:off x="3352680" y="0"/>
            <a:ext cx="5334120" cy="2743200"/>
          </a:xfrm>
          <a:prstGeom prst="wedgeEllipseCallout">
            <a:avLst>
              <a:gd name="adj1" fmla="val 15953"/>
              <a:gd name="adj2" fmla="val 72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¿Por qué Chavo?  ¿Quién es tu profesor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temáticas y como 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8"/>
          <p:cNvSpPr/>
          <p:nvPr/>
        </p:nvSpPr>
        <p:spPr>
          <a:xfrm>
            <a:off x="0" y="0"/>
            <a:ext cx="4952880" cy="350532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i profesor de matemáticas es el señor Diablo. Es mu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ve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ántipatic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895480" y="3728880"/>
            <a:ext cx="3124440" cy="1171800"/>
          </a:xfrm>
          <a:prstGeom prst="wedgeEllipseCallout">
            <a:avLst>
              <a:gd name="adj1" fmla="val 53351"/>
              <a:gd name="adj2" fmla="val 107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¡Caram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83868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eanuts-lucy-psychiatrist.png"/>
          <p:cNvPicPr/>
          <p:nvPr/>
        </p:nvPicPr>
        <p:blipFill>
          <a:blip r:embed="rId2"/>
          <a:stretch/>
        </p:blipFill>
        <p:spPr>
          <a:xfrm>
            <a:off x="6400800" y="4314960"/>
            <a:ext cx="199404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ath-teacher"/>
          <p:cNvPicPr/>
          <p:nvPr/>
        </p:nvPicPr>
        <p:blipFill>
          <a:blip r:embed="rId3"/>
          <a:stretch/>
        </p:blipFill>
        <p:spPr>
          <a:xfrm>
            <a:off x="4257720" y="0"/>
            <a:ext cx="45054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cción 3 ¿Cómo es?-What’s he/she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tu profesor de matemát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 tu profes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8:11:08Z</dcterms:created>
  <dc:creator>wanda.snowfrost</dc:creator>
  <dc:description/>
  <dc:language>en-US</dc:language>
  <cp:lastModifiedBy>wanda.snowfrost</cp:lastModifiedBy>
  <dcterms:modified xsi:type="dcterms:W3CDTF">2011-12-15T08:24:55Z</dcterms:modified>
  <cp:revision>14</cp:revision>
  <dc:subject/>
  <dc:title>Slide 1</dc:title>
</cp:coreProperties>
</file>